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7D3-C767-4C25-85C0-D0575C85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146-D63C-4108-A525-61B86743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4E0-51C7-4203-A5DB-F286425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703-450B-442B-8132-83392859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922-4419-407E-BD91-805F3814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F4B-5A72-411A-BB43-00BA049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29D-48B4-48FA-9D33-F2DF9AB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D63-659A-4AD7-8969-EEA16C33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65D-6777-4DC5-B967-9DFCDB86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3CC-71ED-4910-AE94-E315D13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279-6CF6-457A-8069-2B237FC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2F6-F2AB-431F-AAA3-33C5FF4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833-6DEC-418F-AF16-AACD6C875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ityat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132000" y="333360"/>
            <a:ext cx="3168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morn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eads it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tone that s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even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es to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ging lights Above its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928800"/>
            <a:ext cx="314316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o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iam Jay Sm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ilver-scaled dragon with jaws flaming 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ts at my elbow and toasts my br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nd him fat slices, and then, one by on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hands them back when he sees they are d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428920" y="142920"/>
            <a:ext cx="565776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partment House - Gerald Raf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 filing cabinet of human l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Where people swarm like bees in tunnelled hiv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Each to his own cell in the covered comb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dentical and cramped -- we call it h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324000" y="260280"/>
            <a:ext cx="367668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ream D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ston Hughes (1902-19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a dream defer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it dry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raisin in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fester like a sore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hen r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it stink like rotten me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crust and sugar over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syrupy swe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be it just s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heavy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does it explo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826920" y="1628640"/>
            <a:ext cx="806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Qua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McIner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alls of the house are paper thi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ying awake in the pit of the n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hears his parents arguing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lights a candle stealthily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ld's two halves are closing 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ounding shell; the voices flicker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ives that violate the night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lies imprisoned inside a whale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s blind eyes trace its arching rib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ark beats dow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where, offstage, ripples of distant thunder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indow frames momentary bleached photograph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d as a moon landscape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blows the candle out and wait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leep or the consummation of ra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he tin roof, the tides of drowning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539640" y="0"/>
            <a:ext cx="44611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ludes - T.S. Eli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winter evening settles down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th smell of steaks in passageway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 o.clock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burnt-out ends of smoky day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now a gusty shower wrap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rimy scrap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withered leaves about your fee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newspapers from vacant lots;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howers bea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 broken blinds and chimney-pots,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at the corner of the stree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lonely cab-horse steams and stamp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then the lighting of the lamp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203920" y="189000"/>
            <a:ext cx="675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rning comes to consciousn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faint stale smells of be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sawdust-trampled stre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its muddy feet that pr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arly coffee-stands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other masquerad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ime resume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thinks of all the hand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re raising dingy shad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thousand furnished room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9:56:18Z</dcterms:created>
  <dc:creator>P Yager</dc:creator>
  <dc:description/>
  <dc:language>en-US</dc:language>
  <cp:lastModifiedBy>user</cp:lastModifiedBy>
  <dcterms:modified xsi:type="dcterms:W3CDTF">2009-11-25T11:29:18Z</dcterms:modified>
  <cp:revision>14</cp:revision>
  <dc:subject/>
  <dc:title>Slide 1</dc:title>
</cp:coreProperties>
</file>